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380880"/>
            <a:ext cx="83059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228600"/>
            <a:ext cx="0" cy="61722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52280"/>
            <a:ext cx="2667240" cy="38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ML und Delp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Verdana"/>
              </a:rPr>
              <a:t>XML und Delphi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arbeiten von XML-Dokume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t Borland Delp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943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fan Hey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ttelberger GmbH, Reutlingen, www.kittelberg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85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wickler-Konferenz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k2000_logo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190512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XML-Baum wird komplett als Objekt-Struktur im Speicher aufgeba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ndard: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Document Object 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likation kann mit einem vordefinierten API Objektorientiert durch den Baum navigie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lektion von Knoten durch Abfrage-Ausdrüc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anipulation des Ba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eiben des Baums als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wändiges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um muss komplett in den Speicher 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828800"/>
            <a:ext cx="2286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D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22096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362320"/>
            <a:ext cx="2286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1828800"/>
            <a:ext cx="1752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343400"/>
            <a:ext cx="16002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410080"/>
            <a:ext cx="16002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051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276360" y="5638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276360" y="4495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7636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76720"/>
            <a:ext cx="16002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x=fe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38098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d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57164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895480"/>
            <a:ext cx="16002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8769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ay of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1640" y="5105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9436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791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71640" y="6172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2438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0481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xt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-Parser für Delph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UESoft CUEXml for Delphi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cuesoft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DOM/OpenXM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philo.d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tor: Dieter Köhl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ktuelle Version: 2.2.9, 20.09.200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DOM.pas: 12.386 LOC, 458 K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SXML über COM-Schnittstelle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sdn.microsoft.com/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Objekt-Umwandl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mwandlung von Objekt-Hierarchien in XML und zurü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Verwendung von RT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m Moment kein „Standard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un/Java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.sun.com/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eff Rafter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finedsys.com</a:t>
            </a:r>
            <a:br>
              <a:rPr sz="2400"/>
            </a:b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(Open Source, Fre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hile not eof“-Ment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annen durch den Baum in einem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rteil: Status kann in Lokal-Variablen geführ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nkbar für sehr große XML-Instanzen, die nicht komplett in den Speicher 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faches API, schnell einsetz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structor-Parser TXmlPar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estructor.de TXml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tive Delp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ree, 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eine Validierung, keine Korrektheitsprüf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blau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zeugen einer Insta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den mit LoadFrom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rtS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HILE Scan DO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 befinden sich in PUBLIC-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90040" y="2666880"/>
            <a:ext cx="207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Mis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robleme des Parserba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 soll ja einfach s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en Parser zu schreiben ist es n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bleme: Validierung, genaue Umsetzung der Spec, Geschwindigkeit, Unicode-Support (UTF-1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her nur wenig ernst zu nehmende Parser-Projekte im Delphi-Bere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elcher Pars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uss es wirklich SAX oder DOM sei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Geschwindigke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ode-Qualitä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Verfügbarkeit, Preis, Open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Kylix: eingebauter Parser? MSXM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it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w3c.org (XML, D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megginson.com (SA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structor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lphizine.com (SAX-Pars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apach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philo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xml.com, www.xmlhack.com, www.xml101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XML-Newsgroup auf news.inprise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gebungsbedingung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nnen Sie mich höre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umtemperatur, Lüftu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y a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nne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i Fragen: frage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chwätz schwäbis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44280" y="274320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Fragen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23040" y="2971800"/>
            <a:ext cx="31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&lt;/talk&g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halts-Übersich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undlegendes zum Par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ser für Delph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ve-Hä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6280" y="2743200"/>
            <a:ext cx="538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XML Pars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XML-Verarbeit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505320"/>
            <a:ext cx="373356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819520" y="1828800"/>
            <a:ext cx="3990240" cy="1676160"/>
            <a:chOff x="2819520" y="1828800"/>
            <a:chExt cx="3990240" cy="1676160"/>
          </a:xfrm>
        </p:grpSpPr>
        <p:sp>
          <p:nvSpPr>
            <p:cNvPr id="54" name=""/>
            <p:cNvSpPr/>
            <p:nvPr/>
          </p:nvSpPr>
          <p:spPr>
            <a:xfrm>
              <a:off x="2819520" y="1828800"/>
              <a:ext cx="373356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Verdana"/>
                </a:rPr>
                <a:t>Applik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648320" y="2742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36160" y="2895480"/>
              <a:ext cx="20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Verarbeit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971800" y="4419720"/>
            <a:ext cx="3526560" cy="1904760"/>
            <a:chOff x="2971800" y="4419720"/>
            <a:chExt cx="3526560" cy="1904760"/>
          </a:xfrm>
        </p:grpSpPr>
        <p:sp>
          <p:nvSpPr>
            <p:cNvPr id="58" name=""/>
            <p:cNvSpPr/>
            <p:nvPr/>
          </p:nvSpPr>
          <p:spPr>
            <a:xfrm>
              <a:off x="2971800" y="5334120"/>
              <a:ext cx="3352680" cy="99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Verdana"/>
                </a:rPr>
                <a:t>XML-Date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48320" y="4419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0920" y="449568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Zerleg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Prüf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Demo-XML-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749160" y="1854360"/>
            <a:ext cx="6490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?xml version="1.0" encoding="ISO-8859-1"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CDColl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singer sex="female"&gt;Madonna&lt;/sin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itle&gt;Ray of Light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racks&gt;13&lt;/track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/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singer sex="female"&gt;Gloria Estefan&lt;/sin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itle&gt;Mi Tierra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tracks&gt;12&lt;/track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&lt;/C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Parser-Mentalitä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vents auslösen: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AX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meggins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lement-Baum aufbauen: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w3c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mwandlung in OOP-Objek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HILE NOT EOF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structor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vent-Pars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ür jeden gefundenen Teil wird ein Event/Callback ausgelö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ndard: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AX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Simple API for X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likation muss selbst wissen, wo sie gerade „steht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fache Implement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nkbar für sehr große XML-Instanzen, die nicht komplett in den Speicher 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Event-Parser für Delph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SXML 3 kann SA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DOM/OpenXM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philo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UESoft CUEXml Delphi (kein SAX)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cuesoft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structor.de TXmlScanner (kein SAX)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ww.destructor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eite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17:09:26Z</dcterms:created>
  <dc:creator>Stefan Heymann</dc:creator>
  <dc:description/>
  <dc:language>en-US</dc:language>
  <cp:lastModifiedBy>Heymann</cp:lastModifiedBy>
  <dcterms:modified xsi:type="dcterms:W3CDTF">2000-09-28T12:35:28Z</dcterms:modified>
  <cp:revision>30</cp:revision>
  <dc:subject/>
  <dc:title>XML-Grundlagen</dc:title>
</cp:coreProperties>
</file>